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CB27-E747-4DB4-8737-DB0D8E01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789-D312-4C65-95F7-361D0B18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B91-0777-4BA0-8DB4-2DC82C40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8C7-C8D1-4706-A97D-0FA15B20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014-EA83-4608-A585-B103959B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FD7F-3DCA-4E31-9DEA-977E26DB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06D-0014-4C9A-8BC8-FB85EFC8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139-7DB5-430A-B263-B0B5CB75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7BB-1953-4BDB-AF11-37875142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AEF-8092-4B55-B4DE-44A3CC0B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4F8-E877-47C6-84E8-C0139089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C46-54EA-4C29-A725-E013CE55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BA87-D599-467E-A3C9-8A827D90CB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korbim.com/usr/foto/1183_1.jpg" TargetMode="External"/><Relationship Id="rId2" Type="http://schemas.openxmlformats.org/officeDocument/2006/relationships/hyperlink" Target="http://ru.wikipedia.org/wiki/&#1060;&#1072;&#1081;&#1083;:Dragunskii01.jpg" TargetMode="External"/><Relationship Id="rId3" Type="http://schemas.openxmlformats.org/officeDocument/2006/relationships/hyperlink" Target="http://www.piplz.ru/photo/Paustovskij.jpg" TargetMode="External"/><Relationship Id="rId4" Type="http://schemas.openxmlformats.org/officeDocument/2006/relationships/hyperlink" Target="http://rastor.dubna.ru/Golyavkin/Golyavkin-port-1.jpg" TargetMode="External"/><Relationship Id="rId5" Type="http://schemas.openxmlformats.org/officeDocument/2006/relationships/hyperlink" Target="http://berkovich-zametki.com/2009/Zametki/Nomer12/Batkin4.jpg" TargetMode="External"/><Relationship Id="rId6" Type="http://schemas.openxmlformats.org/officeDocument/2006/relationships/hyperlink" Target="http://www.peoples.ru/art/literature/poetry/oldage/sasha_cherny/cherny_1.gif" TargetMode="External"/><Relationship Id="rId7" Type="http://schemas.openxmlformats.org/officeDocument/2006/relationships/hyperlink" Target="http://www.nasledie-rus.ru/img/750000/750701.jpg" TargetMode="External"/><Relationship Id="rId8" Type="http://schemas.openxmlformats.org/officeDocument/2006/relationships/hyperlink" Target="http://upload.wikimedia.org/wikipedia/commons/c/c0/Sergey_Yesenin.jpg" TargetMode="External"/><Relationship Id="rId9" Type="http://schemas.openxmlformats.org/officeDocument/2006/relationships/hyperlink" Target="http://www.piplz.ru/photo/Prishvin.jpg" TargetMode="External"/><Relationship Id="rId10" Type="http://schemas.openxmlformats.org/officeDocument/2006/relationships/hyperlink" Target="http://www.zateevo.ru/userfiles/image/Rasskazi/sokolov-mikitov.jpg" TargetMode="External"/><Relationship Id="rId11" Type="http://schemas.openxmlformats.org/officeDocument/2006/relationships/hyperlink" Target="http://www.krassever.ru/upload_file/_ibF_1180954963.jpg" TargetMode="External"/><Relationship Id="rId12" Type="http://schemas.openxmlformats.org/officeDocument/2006/relationships/hyperlink" Target="http://bvi.rusf.ru/fanta/foto/bianki_v.jpg" TargetMode="External"/><Relationship Id="rId13" Type="http://schemas.openxmlformats.org/officeDocument/2006/relationships/hyperlink" Target="http://upload.wikimedia.org/wikipedia/commons/6/6c/Zhitkov_Boris.jpg" TargetMode="External"/><Relationship Id="rId14" Type="http://schemas.openxmlformats.org/officeDocument/2006/relationships/hyperlink" Target="http://lib.rus.ec/a/47688" TargetMode="External"/><Relationship Id="rId15" Type="http://schemas.openxmlformats.org/officeDocument/2006/relationships/hyperlink" Target="http://chekhov-vestnik.narod.ru/Index.files/2009/jpg/img03324.jpg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letopisi.ru/images/d/d6/Marshak.JPG" TargetMode="External"/><Relationship Id="rId2" Type="http://schemas.openxmlformats.org/officeDocument/2006/relationships/hyperlink" Target="http://mega.km.ru/bes_2004/DATA%5CPREV1998%5Cpb_015.jpg" TargetMode="External"/><Relationship Id="rId3" Type="http://schemas.openxmlformats.org/officeDocument/2006/relationships/hyperlink" Target="http://www.tonnel.ru/calendar/kniga/219508501_tonnel.gif" TargetMode="External"/><Relationship Id="rId4" Type="http://schemas.openxmlformats.org/officeDocument/2006/relationships/hyperlink" Target="http://www.litra.ru/biography/get/wrid/00767251237718702694/" TargetMode="External"/><Relationship Id="rId5" Type="http://schemas.openxmlformats.org/officeDocument/2006/relationships/hyperlink" Target="http://www.cirota.ru/forum/images/33/33177.jpeg" TargetMode="External"/><Relationship Id="rId6" Type="http://schemas.openxmlformats.org/officeDocument/2006/relationships/hyperlink" Target="http://slovo.isu.ru/gallery/a_p_platonov_large.jpg" TargetMode="External"/><Relationship Id="rId7" Type="http://schemas.openxmlformats.org/officeDocument/2006/relationships/hyperlink" Target="http://img.oboz.obozrevatel.com/files/NewsPhoto/2008/11/21/269941/130034_image_large.jpg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786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треты писателей и поэтов </a:t>
            </a:r>
            <a:br>
              <a:rPr sz="4400"/>
            </a:br>
            <a:r>
              <a:rPr b="1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Практический материал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4 класс 2 полугодие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УМК «Школа Росс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785880" y="28584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№8  им. академика Н.Н. Боголюб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убны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28760" y="1571760"/>
            <a:ext cx="857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пружная Галина Петровна,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2428920" y="5786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Управляющая кнопка: домой 6">
            <a:hlinkClick r:id="rId1" action="ppaction://hlinksldjump"/>
          </p:cNvPr>
          <p:cNvSpPr/>
          <p:nvPr/>
        </p:nvSpPr>
        <p:spPr>
          <a:xfrm>
            <a:off x="8101080" y="616572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Управляющая кнопка: далее 7">
            <a:hlinkClick r:id="rId2" action="ppaction://hlinksldjump"/>
          </p:cNvPr>
          <p:cNvSpPr/>
          <p:nvPr/>
        </p:nvSpPr>
        <p:spPr>
          <a:xfrm>
            <a:off x="853272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 Александрович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5572080" y="321480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0 г. – 192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3214800" cy="4565520"/>
          </a:xfrm>
          <a:prstGeom prst="rect">
            <a:avLst/>
          </a:prstGeom>
          <a:ln w="0">
            <a:noFill/>
          </a:ln>
        </p:spPr>
      </p:pic>
      <p:sp>
        <p:nvSpPr>
          <p:cNvPr id="8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гей Александрович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е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4572000" y="3143160"/>
            <a:ext cx="408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5 г. – 1925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857160" y="1714680"/>
            <a:ext cx="3262320" cy="4736880"/>
          </a:xfrm>
          <a:prstGeom prst="rect">
            <a:avLst/>
          </a:prstGeom>
          <a:ln w="0">
            <a:noFill/>
          </a:ln>
        </p:spPr>
      </p:pic>
      <p:sp>
        <p:nvSpPr>
          <p:cNvPr id="84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хаил Михайл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ш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5500800" y="3143160"/>
            <a:ext cx="36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3 г. – 1954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за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4060800" cy="452736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ван Сергее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колов-Мики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5109840" y="2786040"/>
            <a:ext cx="33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2 г. – 1975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правляющая кнопка: назад 4">
            <a:hlinkClick r:id="rId1" action="ppaction://hlinksldjump"/>
          </p:cNvPr>
          <p:cNvSpPr/>
          <p:nvPr/>
        </p:nvSpPr>
        <p:spPr>
          <a:xfrm>
            <a:off x="828684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1000080" y="1643040"/>
            <a:ext cx="3071880" cy="45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силий Иванович Бе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4643280" y="3143160"/>
            <a:ext cx="400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октября 1932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286680"/>
            <a:ext cx="357120" cy="214200"/>
          </a:xfrm>
          <a:custGeom>
            <a:avLst/>
            <a:gdLst>
              <a:gd name="textAreaLeft" fmla="*/ 13680 w 357120"/>
              <a:gd name="textAreaRight" fmla="*/ 343440 w 3571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622440" y="1285920"/>
            <a:ext cx="35924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талий Валентин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5286240" y="3143160"/>
            <a:ext cx="337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4 г. – 195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3595680" cy="4368600"/>
          </a:xfrm>
          <a:prstGeom prst="rect">
            <a:avLst/>
          </a:prstGeom>
          <a:ln w="0">
            <a:noFill/>
          </a:ln>
        </p:spPr>
      </p:pic>
      <p:sp>
        <p:nvSpPr>
          <p:cNvPr id="10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адимир Леонидович Ду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5252400" y="2214720"/>
            <a:ext cx="33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3 г. – 1934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ессиров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т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14376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1071720" y="1500120"/>
            <a:ext cx="328608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тор Петрович Астаф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4786200" y="2357280"/>
            <a:ext cx="337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28 г. – 1910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за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928800" y="1357200"/>
            <a:ext cx="357192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уил Яковлевич Марш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4572000" y="22147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7 г. – 1964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вод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и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3786120" cy="421308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гния Львовна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р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4357800" y="2500200"/>
            <a:ext cx="47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6 г. – 198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ес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иносценар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3957840" cy="4403520"/>
          </a:xfrm>
          <a:prstGeom prst="rect">
            <a:avLst/>
          </a:prstGeom>
          <a:ln w="0">
            <a:noFill/>
          </a:ln>
        </p:spPr>
      </p:pic>
      <p:sp>
        <p:nvSpPr>
          <p:cNvPr id="116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5650"/>
                </a:solidFill>
                <a:latin typeface="Times New Roman"/>
                <a:ea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99680" y="85716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Шварц Евгений Льв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Драгунский Виктор Юзеф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Голявкин  Виктор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Житков Борис Степ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Паустовский Константин Георги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Куприн Александр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Блок Александр 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Есенин Сергей 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Пришвин Михаил Михайл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Соколов-Микитов Иван Серг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Белов Василий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Бианки Виталий Валенти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Астафьев Виктор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09300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3794" y="6453"/>
                </a:moveTo>
                <a:lnTo>
                  <a:pt x="17806" y="13460"/>
                </a:lnTo>
                <a:lnTo>
                  <a:pt x="3794" y="20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гей Владимир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ха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4000680" y="2214720"/>
            <a:ext cx="5143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 г. – 200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снописец драматур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кадемик Российской Академии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3357360" cy="4656240"/>
          </a:xfrm>
          <a:prstGeom prst="rect">
            <a:avLst/>
          </a:prstGeom>
          <a:ln w="0">
            <a:noFill/>
          </a:ln>
        </p:spPr>
      </p:pic>
      <p:sp>
        <p:nvSpPr>
          <p:cNvPr id="12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на Александровна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ин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5572080" y="3214800"/>
            <a:ext cx="357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3 г. – 198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вод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3243240" cy="428652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рис Викторович Шерг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4572000" y="22147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3 г. – 1973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льклор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21504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642960" y="1500120"/>
            <a:ext cx="35719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дрей Платонович Плато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4572000" y="3143160"/>
            <a:ext cx="408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9 г. – 195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Управляющая кнопка: назад 4">
            <a:hlinkClick r:id="rId1" action="ppaction://hlinksldjump"/>
          </p:cNvPr>
          <p:cNvSpPr/>
          <p:nvPr/>
        </p:nvSpPr>
        <p:spPr>
          <a:xfrm>
            <a:off x="8429760" y="6286680"/>
            <a:ext cx="285480" cy="28548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857160" y="1214280"/>
            <a:ext cx="352908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колай Николае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4572000" y="3143160"/>
            <a:ext cx="492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8 г. – 1976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3643200" cy="4700520"/>
          </a:xfrm>
          <a:prstGeom prst="rect">
            <a:avLst/>
          </a:prstGeom>
          <a:ln w="0">
            <a:noFill/>
          </a:ln>
        </p:spPr>
      </p:pic>
      <p:sp>
        <p:nvSpPr>
          <p:cNvPr id="136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Юрий Иван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рмолаев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5572080" y="3214800"/>
            <a:ext cx="357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 г. – 1996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ктё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3486240" cy="4695480"/>
          </a:xfrm>
          <a:prstGeom prst="rect">
            <a:avLst/>
          </a:prstGeom>
          <a:ln w="0">
            <a:noFill/>
          </a:ln>
        </p:spPr>
      </p:pic>
      <p:sp>
        <p:nvSpPr>
          <p:cNvPr id="14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игорий Бенционович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4643280" y="250020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ноября 1947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3357720" cy="4722480"/>
          </a:xfrm>
          <a:prstGeom prst="rect">
            <a:avLst/>
          </a:prstGeom>
          <a:ln w="0">
            <a:noFill/>
          </a:ln>
        </p:spPr>
      </p:pic>
      <p:sp>
        <p:nvSpPr>
          <p:cNvPr id="144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ман Сеф </a:t>
            </a:r>
            <a:br>
              <a:rPr sz="40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еф Роальд Семенович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00040" y="1500120"/>
            <a:ext cx="3733920" cy="496908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4572000" y="3143160"/>
            <a:ext cx="408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1 г. – 200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ий поэт 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 переводч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нс Христиан Андерс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5466960" y="3000240"/>
            <a:ext cx="33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5 г. – 1875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3554280" cy="4786200"/>
          </a:xfrm>
          <a:prstGeom prst="rect">
            <a:avLst/>
          </a:prstGeom>
          <a:ln w="0">
            <a:noFill/>
          </a:ln>
        </p:spPr>
      </p:pic>
      <p:sp>
        <p:nvSpPr>
          <p:cNvPr id="152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материалов,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5280" y="1341000"/>
            <a:ext cx="8501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арц Е.Л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skorbim.com/usr/foto/1183_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гунский В.Ю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ru.wikipedia.org/wiki/%D0%A4%D0%B0%D0%B9%D0%BB:Dragunskii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стовский К.Г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piplz.ru/photo/Paustovskij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явкин В.В.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rastor.dubna.ru/Golyavkin/Golyavkin-port-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рин А.И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berkovich-zametki.com/2009/Zametki/Nomer12/Batkin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Чёрный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www.peoples.ru/art/literature/poetry/oldage/sasha_cherny/cherny_1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А.А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www.nasledie-rus.ru/img/750000/7507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ин С.А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upload.wikimedia.org/wikipedia/commons/c/c0/Sergey_Yesenin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вин М.М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www.piplz.ru/photo/Prishvin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олов-Микитов И.С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zateevo.ru/userfiles/image/Rasskazi/sokolov-mikitov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в В.И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ttp://www.krassever.ru/upload_file/_ibF_118095496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анки В.В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http://bvi.rusf.ru/fanta/foto/bianki_v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ков Б.С.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http://upload.wikimedia.org/wikipedia/commons/6/6c/Zhitkov_Bori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ров В.Л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http://lib.rus.ec/a/476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афьев В.П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http://chekhov-vestnik.narod.ru/Index.files/2009/jpg/img0332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5650"/>
                </a:solidFill>
                <a:latin typeface="Times New Roman"/>
                <a:ea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42960" y="114300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Маршак Самуил Яковл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Барто Агния Ль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Михалков Сергей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Благинина Еле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Шергин Борис Викто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Платонов Андрей Плато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Носов Николай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Ермолаев Юрий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Остер Григорий Бенцио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Сеф Ром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Андерсен Ганс Христи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Управляющая кнопка: в конец 3">
            <a:hlinkClick r:id="" action="ppaction://hlinkshowjump?jump=lastslide"/>
          </p:cNvPr>
          <p:cNvSpPr/>
          <p:nvPr/>
        </p:nvSpPr>
        <p:spPr>
          <a:xfrm>
            <a:off x="8459640" y="609300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14299" y="13460"/>
                </a:moveTo>
                <a:lnTo>
                  <a:pt x="3794" y="20466"/>
                </a:lnTo>
                <a:lnTo>
                  <a:pt x="3794" y="6453"/>
                </a:lnTo>
                <a:close/>
              </a:path>
              <a:path fill="darken" w="21600" h="26919">
                <a:moveTo>
                  <a:pt x="16144" y="6453"/>
                </a:moveTo>
                <a:lnTo>
                  <a:pt x="16144" y="20466"/>
                </a:lnTo>
                <a:lnTo>
                  <a:pt x="17806" y="20466"/>
                </a:lnTo>
                <a:lnTo>
                  <a:pt x="17806" y="645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материалов,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1599840"/>
            <a:ext cx="8501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шак С. Я. –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letopisi.ru/images/d/d6/Marshak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то А.Л. 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mega.km.ru/bes_2004/DATA%5CPREV1998%5Cpb_01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лков С.В.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tonnel.ru/calendar/kniga/219508501_tonnel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инина Е.А.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litra.ru/biography/get/wrid/007672512377187026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ргин Б.В.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cirota.ru/forum/images/33/33177.j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онов А.П.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slovo.isu.ru/gallery/a_p_platonov_larg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ов Н.Н.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img.oboz.obozrevatel.com/files/NewsPhoto/2008/11/21/269941/130034_image_larg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молаев Ю.И.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deti.spb.ru/pict/writer_rus42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ер Г.Б. –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izdat.ru/f/a0/auto/1/200601/27112026.1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 Сеф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mospis.narod.ru/TVOR-P/s/sef/sef-tv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ерсен Г.Х.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3.examiner.com/images/blog/EXID37062/images/resized_445px_Constantin_Hansen_1836___HC_Andersen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рафии пис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.wikipedia.org/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kostyor.ru/biography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вгений Львович Швар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>
            <a:hlinkClick r:id="rId1" action="ppaction://hlinksldjump"/>
          </p:cNvPr>
          <p:cNvSpPr/>
          <p:nvPr/>
        </p:nvSpPr>
        <p:spPr>
          <a:xfrm>
            <a:off x="4500720" y="2571840"/>
            <a:ext cx="46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6 г. – 195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иносценар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14376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684360" y="1557360"/>
            <a:ext cx="314316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тор Юзеф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агу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4643280" y="2214720"/>
            <a:ext cx="45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 г. – 1972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3500640" cy="4480200"/>
          </a:xfrm>
          <a:prstGeom prst="rect">
            <a:avLst/>
          </a:prstGeom>
          <a:ln w="0">
            <a:noFill/>
          </a:ln>
        </p:spPr>
      </p:pic>
      <p:sp>
        <p:nvSpPr>
          <p:cNvPr id="6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37360"/>
            <a:ext cx="428400" cy="334800"/>
          </a:xfrm>
          <a:custGeom>
            <a:avLst/>
            <a:gdLst>
              <a:gd name="textAreaLeft" fmla="*/ 21600 w 428400"/>
              <a:gd name="textAreaRight" fmla="*/ 406800 w 42840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27632" h="21600">
                <a:moveTo>
                  <a:pt x="0" y="0"/>
                </a:moveTo>
                <a:lnTo>
                  <a:pt x="27632" y="0"/>
                </a:lnTo>
                <a:lnTo>
                  <a:pt x="27632" y="21600"/>
                </a:lnTo>
                <a:lnTo>
                  <a:pt x="0" y="21600"/>
                </a:lnTo>
                <a:close/>
              </a:path>
              <a:path fill="lightenLess" w="27632" h="21600">
                <a:moveTo>
                  <a:pt x="0" y="0"/>
                </a:moveTo>
                <a:lnTo>
                  <a:pt x="27632" y="0"/>
                </a:lnTo>
                <a:lnTo>
                  <a:pt x="26232" y="1400"/>
                </a:lnTo>
                <a:lnTo>
                  <a:pt x="1400" y="1400"/>
                </a:lnTo>
                <a:close/>
              </a:path>
              <a:path fill="darken" w="27632" h="21600">
                <a:moveTo>
                  <a:pt x="27632" y="0"/>
                </a:moveTo>
                <a:lnTo>
                  <a:pt x="27632" y="21600"/>
                </a:lnTo>
                <a:lnTo>
                  <a:pt x="26232" y="20200"/>
                </a:lnTo>
                <a:lnTo>
                  <a:pt x="26232" y="1400"/>
                </a:lnTo>
                <a:close/>
              </a:path>
              <a:path fill="darkenLess" w="27632" h="21600">
                <a:moveTo>
                  <a:pt x="27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32" y="20200"/>
                </a:lnTo>
                <a:close/>
              </a:path>
              <a:path fill="lighten" w="27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32" h="21600">
                <a:moveTo>
                  <a:pt x="6810" y="10800"/>
                </a:moveTo>
                <a:lnTo>
                  <a:pt x="20823" y="3794"/>
                </a:lnTo>
                <a:lnTo>
                  <a:pt x="2082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тор Владимирович Голяв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4572000" y="3143160"/>
            <a:ext cx="408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9 г. – 200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302436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рис Степанович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ит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4643280" y="2000160"/>
            <a:ext cx="450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2 г. – 193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утешестве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следов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85880" y="1571760"/>
            <a:ext cx="3038400" cy="4695840"/>
          </a:xfrm>
          <a:prstGeom prst="rect">
            <a:avLst/>
          </a:prstGeom>
          <a:ln w="0">
            <a:noFill/>
          </a:ln>
        </p:spPr>
      </p:pic>
      <p:sp>
        <p:nvSpPr>
          <p:cNvPr id="68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антин Георгиевич Пауст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5357880" y="3143160"/>
            <a:ext cx="330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2 г. – 196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Управляющая кнопка: назад 5">
            <a:hlinkClick r:id="rId1" action="ppaction://hlinksldjump"/>
          </p:cNvPr>
          <p:cNvSpPr/>
          <p:nvPr/>
        </p:nvSpPr>
        <p:spPr>
          <a:xfrm>
            <a:off x="835812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714480" cy="41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 Иванович Куп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5286240" y="3286080"/>
            <a:ext cx="330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0 г. – 193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Управляющая кнопка: назад 4">
            <a:hlinkClick r:id="rId1" action="ppaction://hlinksldjump"/>
          </p:cNvPr>
          <p:cNvSpPr/>
          <p:nvPr/>
        </p:nvSpPr>
        <p:spPr>
          <a:xfrm>
            <a:off x="8286840" y="6143760"/>
            <a:ext cx="500040" cy="328320"/>
          </a:xfrm>
          <a:custGeom>
            <a:avLst/>
            <a:gdLst>
              <a:gd name="textAreaLeft" fmla="*/ 21240 w 500040"/>
              <a:gd name="textAreaRight" fmla="*/ 478800 w 500040"/>
              <a:gd name="textAreaTop" fmla="*/ 21240 h 328320"/>
              <a:gd name="textAreaBottom" fmla="*/ 307080 h 328320"/>
            </a:gdLst>
            <a:ahLst/>
            <a:rect l="textAreaLeft" t="textAreaTop" r="textAreaRight" b="textAreaBottom"/>
            <a:pathLst>
              <a:path w="32885" h="21600">
                <a:moveTo>
                  <a:pt x="0" y="0"/>
                </a:moveTo>
                <a:lnTo>
                  <a:pt x="32885" y="0"/>
                </a:lnTo>
                <a:lnTo>
                  <a:pt x="32885" y="21600"/>
                </a:lnTo>
                <a:lnTo>
                  <a:pt x="0" y="21600"/>
                </a:lnTo>
                <a:close/>
              </a:path>
              <a:path fill="lightenLess" w="32885" h="21600">
                <a:moveTo>
                  <a:pt x="0" y="0"/>
                </a:moveTo>
                <a:lnTo>
                  <a:pt x="32885" y="0"/>
                </a:lnTo>
                <a:lnTo>
                  <a:pt x="31485" y="1400"/>
                </a:lnTo>
                <a:lnTo>
                  <a:pt x="1400" y="1400"/>
                </a:lnTo>
                <a:close/>
              </a:path>
              <a:path fill="darken" w="32885" h="21600">
                <a:moveTo>
                  <a:pt x="32885" y="0"/>
                </a:moveTo>
                <a:lnTo>
                  <a:pt x="32885" y="21600"/>
                </a:lnTo>
                <a:lnTo>
                  <a:pt x="31485" y="20200"/>
                </a:lnTo>
                <a:lnTo>
                  <a:pt x="31485" y="1400"/>
                </a:lnTo>
                <a:close/>
              </a:path>
              <a:path fill="darkenLess" w="32885" h="21600">
                <a:moveTo>
                  <a:pt x="32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85" y="20200"/>
                </a:lnTo>
                <a:close/>
              </a:path>
              <a:path fill="lighten" w="32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85" h="21600">
                <a:moveTo>
                  <a:pt x="9436" y="10800"/>
                </a:moveTo>
                <a:lnTo>
                  <a:pt x="23449" y="3794"/>
                </a:lnTo>
                <a:lnTo>
                  <a:pt x="23449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3828960" cy="4676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09:14:34Z</dcterms:created>
  <dc:creator>Galina</dc:creator>
  <dc:description/>
  <dc:language>en-US</dc:language>
  <cp:lastModifiedBy>Galina</cp:lastModifiedBy>
  <dcterms:modified xsi:type="dcterms:W3CDTF">2011-11-23T17:36:31Z</dcterms:modified>
  <cp:revision>153</cp:revision>
  <dc:subject/>
  <dc:title>Афанасий Афанасьевич Фет</dc:title>
</cp:coreProperties>
</file>